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0DEC-D6D3-43A3-92BB-558BD80E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7502-8B86-414F-A6E4-00CCF4CFF7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536-69FA-4075-802F-3E13F0A4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111-F598-400F-BD9C-623216E2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876-FF68-42C7-B00D-8E180713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05C-F6F0-4C4D-BA77-522AE2BE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D76-2ED4-4F45-B7DA-4683EA50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99F-EB2C-48A3-8D35-9E514ED1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3A2-CE17-4EE6-BCF2-9E632E39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9B1-45B4-4E2F-9243-80D1213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691-93F6-4238-94F1-A4AB2D10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FBC-911A-4182-BF20-FD46534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7DF-7354-4620-9958-C2CD755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725-B870-410A-8C5D-8C478FA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E259-2140-4820-9BAF-872CE018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701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4 de marzo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rminamos el repaso para la prue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7030a0"/>
                </a:solidFill>
                <a:latin typeface="Arial"/>
              </a:rPr>
              <a:t>L.O: To review stem-changing verb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lta la hoja LOS DEPORTES EN EL MUNDO HISP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GRAMATICA EN V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untes a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r los ejercicios del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TOMAR </a:t>
            </a:r>
            <a:r>
              <a:rPr b="0" lang="es-ES_tradnl" sz="3200" spc="-1" strike="noStrike" u="sng">
                <a:solidFill>
                  <a:srgbClr val="ff0000"/>
                </a:solidFill>
                <a:uFillTx/>
                <a:latin typeface="Arial"/>
              </a:rPr>
              <a:t>Quiz 4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a en 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36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¡Viva Argen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distribuida, 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El pa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l unifor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Un parti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48895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hoj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ltura en Vivo: ¡Viva Argentina!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las siguientes se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Po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Comparac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8088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cp:lastPrinted>2016-03-03T23:18:37Z</cp:lastPrinted>
  <dcterms:modified xsi:type="dcterms:W3CDTF">2016-03-04T21:30:08Z</dcterms:modified>
  <cp:revision>30</cp:revision>
  <dc:subject/>
  <dc:title>Me llamo __________ Clase 6 nh/il La fecha es el 11 de mayo del 2011</dc:title>
</cp:coreProperties>
</file>